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810-4D29-4846-A324-8B771C5A1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628-308E-4119-B83E-3B5E0319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CD9-7338-4D38-A849-8B020A04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5429-8062-4CBF-A30A-BA5FDEEC3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E06-9BA1-49E2-9821-80363842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D45-EDED-46CB-8327-C26B4C4F7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D03C-E06B-4979-9BA1-AEB4510CF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DAD-249E-43DC-A869-544663BD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3CE-A6A4-43C7-A4C0-3C98E759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93D-43DE-41E8-8A4C-CC41710E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2468-1DDC-450F-A0DE-ADA99CC0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063-8997-4EF7-938E-95427970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AA3B2-27D5-4E15-8A3A-20A88E11D589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C9A77-0FFA-49FD-9AEE-457AF9218996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ttangolo 10"/>
          <p:cNvSpPr/>
          <p:nvPr/>
        </p:nvSpPr>
        <p:spPr>
          <a:xfrm>
            <a:off x="428760" y="2286000"/>
            <a:ext cx="8215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duttor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iniziali di rifiu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ericolos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&gt; 50 dipendent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compresi quelli di cui all’art. 212 c. 8 del Dlgs 152/200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e en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produttor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niziali di rifiuti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non pericolos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a lavorazione industriali, artigianali, da recupero e smaltimento rifiuti, fanghi …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(Art. 184 c. 3 lett. c, d e g)</a:t>
            </a:r>
            <a:r>
              <a:rPr b="1" lang="it-IT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&gt; 50 dipende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ommercianti, intermediar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Consorz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stituiti per il recupero e il riciclaggio di particolari tipologie di rifiu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che raccolgono 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trasportano rifiuti special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(art. 212 c. 5 del Dlgs 152/200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mprese e enti che effettuano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operazioni di recupero e smalti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omuni e gli Enti e le imprese che gestiscono i </a:t>
            </a:r>
            <a:r>
              <a:rPr b="0" lang="it-IT" sz="2000" spc="-1" strike="noStrike">
                <a:solidFill>
                  <a:srgbClr val="ff0000"/>
                </a:solidFill>
                <a:latin typeface="Calibri"/>
              </a:rPr>
              <a:t>rifiuti urbani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 nel territorio della Regione  Campan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0" y="11430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Iscrizione SISTRI: 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egnaposto numero diapositiva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75B5C-697F-48A1-8753-913FA004B8E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"/>
          <p:cNvPicPr/>
          <p:nvPr/>
        </p:nvPicPr>
        <p:blipFill>
          <a:blip r:embed="rId2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47" name="Connettore 1 11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asellaDiTesto 9"/>
          <p:cNvSpPr/>
          <p:nvPr/>
        </p:nvSpPr>
        <p:spPr>
          <a:xfrm>
            <a:off x="7077960" y="628668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gue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ttangolo 7"/>
          <p:cNvGrpSpPr/>
          <p:nvPr/>
        </p:nvGrpSpPr>
        <p:grpSpPr>
          <a:xfrm>
            <a:off x="493560" y="2352600"/>
            <a:ext cx="7944120" cy="4322880"/>
            <a:chOff x="493560" y="2352600"/>
            <a:chExt cx="7944120" cy="4322880"/>
          </a:xfrm>
        </p:grpSpPr>
        <p:pic>
          <p:nvPicPr>
            <p:cNvPr id="51" name="Rettangolo 7" descr=""/>
            <p:cNvPicPr/>
            <p:nvPr/>
          </p:nvPicPr>
          <p:blipFill>
            <a:blip r:embed="rId1"/>
            <a:stretch/>
          </p:blipFill>
          <p:spPr>
            <a:xfrm>
              <a:off x="493560" y="2352600"/>
              <a:ext cx="7944120" cy="43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00040" y="2357280"/>
              <a:ext cx="7929720" cy="42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 caso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trasporto marittimo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, il terminalista concessionario dell’area portuale di cui all’art. 18 della Legge 28 gennaio 1994, n. 84 e l’impresa portuale di cui all’art. 16 della citata Legge n. 84 del 1994, ai quali sono affidati i rifiuti in attesa di imbarco o allo sbarco, in attesa del successivo trasporto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n caso di trasporto ferroviario, i responsabili degli uffici di gestione merci e gli operatori logistici presso le stazioni ferroviarie, gli interporti, gli impianti di terminalizzazione e gli scali merci ai quali sono affidati i rifiuti in attesa della presa in carico degli stessi da parte dell’impresa ferroviaria o dell’impresa che effettua il successivo trasport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2B3E-322D-41CC-809D-1F7C10B8D8D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28760" y="1214280"/>
            <a:ext cx="8358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Iscrizione SISTRI: 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2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3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57" name="Connettore 1 12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1714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70c0"/>
                </a:solidFill>
                <a:latin typeface="Calibri"/>
                <a:ea typeface="Calibri"/>
              </a:rPr>
              <a:t>        </a:t>
            </a:r>
            <a:r>
              <a:rPr b="1" lang="it-IT" sz="2000" spc="-1" strike="noStrike" u="sng">
                <a:solidFill>
                  <a:srgbClr val="0070c0"/>
                </a:solidFill>
                <a:uFillTx/>
                <a:latin typeface="Calibri"/>
                <a:ea typeface="Calibri"/>
              </a:rPr>
              <a:t>Primo gruppo (entro il 30 marzo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Rettangolo 7"/>
          <p:cNvGrpSpPr/>
          <p:nvPr/>
        </p:nvGrpSpPr>
        <p:grpSpPr>
          <a:xfrm>
            <a:off x="493560" y="2779560"/>
            <a:ext cx="7944120" cy="2687760"/>
            <a:chOff x="493560" y="2779560"/>
            <a:chExt cx="7944120" cy="2687760"/>
          </a:xfrm>
        </p:grpSpPr>
        <p:pic>
          <p:nvPicPr>
            <p:cNvPr id="60" name="Rettangolo 7" descr=""/>
            <p:cNvPicPr/>
            <p:nvPr/>
          </p:nvPicPr>
          <p:blipFill>
            <a:blip r:embed="rId1"/>
            <a:stretch/>
          </p:blipFill>
          <p:spPr>
            <a:xfrm>
              <a:off x="493560" y="2779560"/>
              <a:ext cx="7944120" cy="26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00040" y="2786040"/>
              <a:ext cx="792972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duttori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iniziali di rifiu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ericolosi </a:t>
              </a:r>
              <a:r>
                <a:rPr b="0" lang="it-IT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&lt; 50 dipendenti 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(compresi quelli di cui all’art. 212 c. 8 del Dlgs 152/2006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Imprese e en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produttori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 iniziali di rifiut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non pericolosi </a:t>
              </a:r>
              <a:r>
                <a:rPr b="0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da lavorazione industriali, artigianali, da recupero e smaltimento rifiuti, fanghi </a:t>
              </a:r>
              <a:r>
                <a:rPr b="1" lang="it-IT" sz="2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… (Art. 184 c. 3 lett. c, d e g)</a:t>
              </a:r>
              <a:r>
                <a:rPr b="0" lang="it-IT" sz="2400" spc="-1" strike="noStrike">
                  <a:solidFill>
                    <a:srgbClr val="ff0000"/>
                  </a:solidFill>
                  <a:latin typeface="Calibri"/>
                  <a:ea typeface="Calibri"/>
                </a:rPr>
                <a:t> da 11 a 50 dipendent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Segnaposto numero diapositiva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8ED4-8528-458A-BFC4-72E917573EA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128592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70c0"/>
                </a:solidFill>
                <a:latin typeface="Arial"/>
                <a:ea typeface="Calibri"/>
              </a:rPr>
              <a:t>Iscrizione SISTRI: </a:t>
            </a:r>
            <a:r>
              <a:rPr b="1" lang="it-IT" sz="3200" spc="-1" strike="noStrike">
                <a:solidFill>
                  <a:srgbClr val="0070c0"/>
                </a:solidFill>
                <a:latin typeface="Calibri"/>
                <a:ea typeface="Calibri"/>
              </a:rPr>
              <a:t>Soggetti obblig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Rectangle 2" descr=""/>
          <p:cNvPicPr/>
          <p:nvPr/>
        </p:nvPicPr>
        <p:blipFill>
          <a:blip r:embed="rId2"/>
          <a:stretch/>
        </p:blipFill>
        <p:spPr>
          <a:xfrm>
            <a:off x="-6480" y="1994040"/>
            <a:ext cx="9156960" cy="51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357120" y="214200"/>
            <a:ext cx="3786120" cy="63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4"/>
          <a:stretch/>
        </p:blipFill>
        <p:spPr>
          <a:xfrm>
            <a:off x="6215040" y="214200"/>
            <a:ext cx="2428920" cy="614520"/>
          </a:xfrm>
          <a:prstGeom prst="rect">
            <a:avLst/>
          </a:prstGeom>
          <a:ln w="0">
            <a:noFill/>
          </a:ln>
        </p:spPr>
      </p:pic>
      <p:sp>
        <p:nvSpPr>
          <p:cNvPr id="67" name="Connettore 1 12"/>
          <p:cNvSpPr/>
          <p:nvPr/>
        </p:nvSpPr>
        <p:spPr>
          <a:xfrm>
            <a:off x="0" y="1000080"/>
            <a:ext cx="9144000" cy="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14:38:45Z</dcterms:created>
  <dc:creator>Roberta Scarinci</dc:creator>
  <dc:description/>
  <dc:language>en-US</dc:language>
  <cp:lastModifiedBy>Cristina Zani</cp:lastModifiedBy>
  <dcterms:modified xsi:type="dcterms:W3CDTF">2010-06-03T14:10:27Z</dcterms:modified>
  <cp:revision>191</cp:revision>
  <dc:subject/>
  <dc:title>SISTRI</dc:title>
</cp:coreProperties>
</file>