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F8C99AC-BFC5-47B0-A9C2-F29BA025CA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6291FA2-D5ED-4E03-B24F-109AA0974D7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7675-A9FC-48C5-ADC6-BDD1885674A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50E-5040-4C41-B2B1-174BF353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F22-3396-4A4B-B669-DCEC0A1E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80D-573B-45AC-859F-08E2B55D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7F4-8001-4206-A15A-BF8D9407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0946-9A51-49BC-9A78-34D64381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EE35-D1C5-4F43-9DD5-AFCAC7EA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2808-C9D8-48B3-87C9-349B9BBD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0599-EBCB-4C62-A6B1-CBB9D458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543A-9E27-4B15-8B0A-D06C4034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A7D5-FF99-4DE1-BABE-17BC9B6D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97A6-5449-4A47-AE30-5F40787A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683-C76C-4D88-BA38-A28BD6E8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6C78-75E6-4789-AB30-20B82C3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44E9-B28A-42DD-B5CD-2049A91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4AAC-F12F-4FF9-83D3-16B0358A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9729-F743-448F-8C0F-36011652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73FF-56B3-4B8A-8C06-E9CC4472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B0D-E816-4155-884D-8D5CAD14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B6B-3C55-4E79-873B-0716DD46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B43-16E1-49B2-B2B8-E7E68D86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4EA-6616-4B40-96E6-33569E7E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97B-363D-4B52-AA30-2439C6AE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92F-C3A5-4A83-8868-A77DD5CB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0CF-D614-4880-BF2A-090B6722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6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E694-7F1E-435A-9F2B-87E7C267DBA8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60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971640" y="1028880"/>
            <a:ext cx="7996320" cy="0"/>
          </a:xfrm>
          <a:prstGeom prst="line">
            <a:avLst/>
          </a:prstGeom>
          <a:ln w="1908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09520" y="264960"/>
            <a:ext cx="82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2819520"/>
            <a:ext cx="755640" cy="403848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9"/>
          <p:cNvSpPr/>
          <p:nvPr/>
        </p:nvSpPr>
        <p:spPr>
          <a:xfrm>
            <a:off x="0" y="0"/>
            <a:ext cx="755640" cy="2852640"/>
          </a:xfrm>
          <a:prstGeom prst="rect">
            <a:avLst/>
          </a:prstGeom>
          <a:noFill/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logo_mcc_orizzontale NO MCC"/>
          <p:cNvPicPr/>
          <p:nvPr/>
        </p:nvPicPr>
        <p:blipFill>
          <a:blip r:embed="rId2"/>
          <a:stretch/>
        </p:blipFill>
        <p:spPr>
          <a:xfrm>
            <a:off x="82440" y="-171360"/>
            <a:ext cx="563760" cy="32511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CF68-5497-43EC-AA06-7BB54AC6555D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5"/>
          <p:cNvSpPr/>
          <p:nvPr/>
        </p:nvSpPr>
        <p:spPr>
          <a:xfrm>
            <a:off x="1046160" y="3357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1046160" y="4149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0" y="0"/>
            <a:ext cx="755640" cy="685800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1042920" y="6165720"/>
            <a:ext cx="777420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8" descr="logo_mcc_orizzontale NO MCC"/>
          <p:cNvPicPr/>
          <p:nvPr/>
        </p:nvPicPr>
        <p:blipFill>
          <a:blip r:embed="rId2"/>
          <a:stretch/>
        </p:blipFill>
        <p:spPr>
          <a:xfrm>
            <a:off x="361800" y="477720"/>
            <a:ext cx="497844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042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3749-17DD-4465-8B22-A501C601D14C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7652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436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A60D-2FAE-4AFF-835E-F3D64539AC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4ADF-5142-4C7E-A25C-0DEA582EEE67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26920" y="252360"/>
            <a:ext cx="813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ttuazione del decreto 26 giugno 2012: le percentuali di copertura e l’importo massimo garant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0"/>
          <p:cNvSpPr/>
          <p:nvPr/>
        </p:nvSpPr>
        <p:spPr>
          <a:xfrm>
            <a:off x="971640" y="1105920"/>
            <a:ext cx="7993080" cy="23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Le percentuali di copertura e l’importo massimo garant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1"/>
          <p:cNvSpPr/>
          <p:nvPr/>
        </p:nvSpPr>
        <p:spPr>
          <a:xfrm>
            <a:off x="1001880" y="371628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39"/>
          <p:cNvSpPr/>
          <p:nvPr/>
        </p:nvSpPr>
        <p:spPr>
          <a:xfrm>
            <a:off x="1001880" y="138348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Garanzia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diret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40"/>
          <p:cNvSpPr/>
          <p:nvPr/>
        </p:nvSpPr>
        <p:spPr>
          <a:xfrm>
            <a:off x="1001880" y="408384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Controgaranz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41"/>
          <p:cNvSpPr/>
          <p:nvPr/>
        </p:nvSpPr>
        <p:spPr>
          <a:xfrm>
            <a:off x="1001880" y="645336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di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tretch/>
        </p:blipFill>
        <p:spPr>
          <a:xfrm>
            <a:off x="1042920" y="1733400"/>
            <a:ext cx="7777080" cy="198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77770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9:41:48Z</dcterms:created>
  <dc:creator>ccara</dc:creator>
  <dc:description/>
  <dc:language>en-US</dc:language>
  <cp:lastModifiedBy>FBrunori</cp:lastModifiedBy>
  <cp:lastPrinted>2012-11-08T12:02:55Z</cp:lastPrinted>
  <dcterms:modified xsi:type="dcterms:W3CDTF">2012-12-05T18:38:12Z</dcterms:modified>
  <cp:revision>470</cp:revision>
  <dc:subject/>
  <dc:title>Diapositiva 1</dc:title>
</cp:coreProperties>
</file>